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86177-E2B4-4FD6-A278-63E4E6D44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80FDC-8460-416E-B55A-8126E4E9F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CD8B9-E362-4673-B524-A52DE62E4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23368-4984-42D2-ABBD-D0C9EAEC3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F24CE-D831-4EC5-8BE7-8EDEBFC96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B6994-6819-494C-B24F-0701B46E6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41C22-A6D4-4E2C-AA1F-6B72A89AA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4B614-87B7-4643-A43C-D556B83DC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D6C1C-E45E-48AA-A901-B7CC3D6ED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EC711-B91A-429B-9D2A-4A5DA854A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BD455-023B-47E3-8347-075543474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88F55-4A4E-4F34-A3F6-ECE9F06CE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EF3FD-7FF3-4630-9A8D-A2C2B5250C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 u="sng">
                <a:solidFill>
                  <a:srgbClr val="000000"/>
                </a:solidFill>
                <a:uFillTx/>
                <a:latin typeface="Arial"/>
              </a:rPr>
              <a:t>TeraTerm</a:t>
            </a:r>
            <a:r>
              <a:rPr b="0" lang="ja-JP" sz="1600" spc="-1" strike="noStrike" u="sng">
                <a:solidFill>
                  <a:srgbClr val="000000"/>
                </a:solidFill>
                <a:uFillTx/>
                <a:latin typeface="Arial"/>
              </a:rPr>
              <a:t>モジュール構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39640" y="83664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ermpro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50920" y="10526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27280" y="83664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cmn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340000" y="1052640"/>
            <a:ext cx="0" cy="172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40000" y="148428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627280" y="126828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dlg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340000" y="1844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27280" y="170028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file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340000" y="2276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27280" y="213372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set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340000" y="278136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627280" y="256536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tek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692280"/>
            <a:ext cx="3743280" cy="2376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940360" y="83664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pmacro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39640" y="206064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TeraTerm</a:t>
            </a: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本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067280" y="981000"/>
            <a:ext cx="187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0" y="692280"/>
            <a:ext cx="93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マクロ実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067280" y="1125360"/>
            <a:ext cx="1873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356000" y="1268280"/>
            <a:ext cx="1295640" cy="432000"/>
          </a:xfrm>
          <a:prstGeom prst="wedgeRoundRectCallout">
            <a:avLst>
              <a:gd name="adj1" fmla="val -13601"/>
              <a:gd name="adj2" fmla="val -78675"/>
              <a:gd name="adj3" fmla="val 16667"/>
            </a:avLst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によ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プロセス間通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508720" y="2421000"/>
            <a:ext cx="1512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cygterm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812000" y="2205000"/>
            <a:ext cx="1081080" cy="944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Cygw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/dev/ptm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067280" y="2565360"/>
            <a:ext cx="144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140360" y="2276640"/>
            <a:ext cx="122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cal TC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接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580000" y="1844640"/>
            <a:ext cx="1295640" cy="432000"/>
          </a:xfrm>
          <a:prstGeom prst="wedgeRoundRectCallout">
            <a:avLst>
              <a:gd name="adj1" fmla="val -14703"/>
              <a:gd name="adj2" fmla="val 80513"/>
              <a:gd name="adj3" fmla="val 16667"/>
            </a:avLst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ocal port2000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番で待ち受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020000" y="263700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067280" y="2708280"/>
            <a:ext cx="14414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3860640"/>
            <a:ext cx="1223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xssh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63640" y="3860640"/>
            <a:ext cx="122400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XProxy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03640" y="3860640"/>
            <a:ext cx="122400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xkanjimenu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826920" y="3141720"/>
            <a:ext cx="289080" cy="647640"/>
          </a:xfrm>
          <a:prstGeom prst="upArrow">
            <a:avLst>
              <a:gd name="adj1" fmla="val 50000"/>
              <a:gd name="adj2" fmla="val 5600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195640" y="3141720"/>
            <a:ext cx="288720" cy="647640"/>
          </a:xfrm>
          <a:prstGeom prst="upArrow">
            <a:avLst>
              <a:gd name="adj1" fmla="val 50000"/>
              <a:gd name="adj2" fmla="val 560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564000" y="3141720"/>
            <a:ext cx="288720" cy="647640"/>
          </a:xfrm>
          <a:prstGeom prst="upArrow">
            <a:avLst>
              <a:gd name="adj1" fmla="val 50000"/>
              <a:gd name="adj2" fmla="val 560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042920" y="4365720"/>
            <a:ext cx="28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本体起動時にダイナミックローディン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900000" y="537372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keycode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32000" y="537372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menu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508720" y="3141720"/>
            <a:ext cx="1512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cyglaunch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6156360" y="285228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219640" y="429264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LogMeTT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732720" y="45086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308720" y="429264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LogMeTTc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020000" y="450864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20000" y="486900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472428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runltt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020000" y="5300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308720" y="515772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LEdit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7T12:48:04Z</dcterms:created>
  <dc:creator>yutaka</dc:creator>
  <dc:description/>
  <dc:language>en-US</dc:language>
  <cp:lastModifiedBy>yutaka</cp:lastModifiedBy>
  <dcterms:modified xsi:type="dcterms:W3CDTF">2008-02-17T13:46:57Z</dcterms:modified>
  <cp:revision>65</cp:revision>
  <dc:subject/>
  <dc:title>TeraTermモジュール構成</dc:title>
</cp:coreProperties>
</file>