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13ED-F5AA-4B3B-B127-4547F61F5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647676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320" y="3441960"/>
            <a:ext cx="647676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B8DF-75D6-4EC5-8469-D6F6E5F0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132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016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145B-C401-4B01-AB92-F430CCD5E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1200" y="165060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0720" y="165060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1320" y="344196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1200" y="344196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50720" y="344196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ABD9-E6B7-4FFC-B2DB-5620763A5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1320" y="165060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5558-54E9-4832-BBD1-352B03EB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2F2E-0E36-40FB-97A8-A69E98B8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B732-1305-4895-95EE-05750899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EF2D-CA7B-49FD-ACA2-4349A0EA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1320" y="507960"/>
            <a:ext cx="647676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F0B9-5CBC-4098-BD40-F59E93DE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132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18F9-E8DA-4D5D-AED9-B398826A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016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A66A-4450-4767-9FEE-D825CA05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320" y="3441960"/>
            <a:ext cx="647676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CF6E-36D9-4FBA-A79E-66D6F152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320" y="165060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 fontScale="98000"/>
          </a:bodyPr>
          <a:p>
            <a:pPr marL="2858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379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96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440" indent="-19152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512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512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512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1320" y="5207040"/>
            <a:ext cx="1587240" cy="3808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Autofit/>
          </a:bodyPr>
          <a:lstStyle>
            <a:lvl1pPr indent="0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207040"/>
            <a:ext cx="2413080" cy="3808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Autofit/>
          </a:bodyPr>
          <a:lstStyle>
            <a:lvl1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840" y="5207040"/>
            <a:ext cx="1587600" cy="3808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Autofit/>
          </a:bodyPr>
          <a:lstStyle>
            <a:lvl1pPr indent="0" algn="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fld id="{5CD0B4F1-5BE1-4809-8346-2C83F1379AE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74160" y="1416960"/>
            <a:ext cx="827640" cy="33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ffutils 2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analyze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MP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ONFIG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MPBUF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MPBUF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ONTEXT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ENT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ENT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ED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ERROR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NMATCH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NMATCH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GnuVersion.c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IFDEF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IO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NORMAL.C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IDE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YSTEM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UTIL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XMALLOC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2160" y="3782160"/>
            <a:ext cx="906840" cy="932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rd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Doc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Do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Result li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Context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Context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76360" y="1707840"/>
            <a:ext cx="841320" cy="50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MergeD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MergeDo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MergeDoc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21920" y="3912840"/>
            <a:ext cx="974880" cy="107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wrapper supp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(Dirdoc onl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Sca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Scan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Thread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Thread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45960" y="1188720"/>
            <a:ext cx="1213920" cy="781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ffutils wrap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(tagDIFFSETTING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= diffutils option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Wrapp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Wrapp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02920" y="493920"/>
            <a:ext cx="991440" cy="64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Generate pa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(through menu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atchTool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atchToo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78640" y="1983600"/>
            <a:ext cx="1348200" cy="174132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buf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crystaltextbuff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crystaltextbuffer.in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crystaltextbuff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encoding (not use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hcondlg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hcondlg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s2cs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s2c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encoding needs file fil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pattern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patter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83440" y="1257480"/>
            <a:ext cx="592200" cy="49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files lo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ile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iles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6080" y="2978280"/>
            <a:ext cx="738360" cy="475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WinMe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3"/>
            <a:endCxn id="44" idx="1"/>
          </p:cNvCxnSpPr>
          <p:nvPr/>
        </p:nvCxnSpPr>
        <p:spPr>
          <a:xfrm>
            <a:off x="2349000" y="4248000"/>
            <a:ext cx="2573280" cy="200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" name=""/>
          <p:cNvCxnSpPr>
            <a:stCxn id="44" idx="3"/>
            <a:endCxn id="41" idx="1"/>
          </p:cNvCxnSpPr>
          <p:nvPr/>
        </p:nvCxnSpPr>
        <p:spPr>
          <a:xfrm flipV="1">
            <a:off x="5896800" y="3109680"/>
            <a:ext cx="477720" cy="1338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" name=""/>
          <p:cNvCxnSpPr>
            <a:stCxn id="45" idx="3"/>
            <a:endCxn id="41" idx="1"/>
          </p:cNvCxnSpPr>
          <p:nvPr/>
        </p:nvCxnSpPr>
        <p:spPr>
          <a:xfrm>
            <a:off x="6059880" y="1579320"/>
            <a:ext cx="314640" cy="1530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" name=""/>
          <p:cNvCxnSpPr>
            <a:stCxn id="54" idx="3"/>
            <a:endCxn id="47" idx="1"/>
          </p:cNvCxnSpPr>
          <p:nvPr/>
        </p:nvCxnSpPr>
        <p:spPr>
          <a:xfrm flipV="1">
            <a:off x="2463840" y="2854080"/>
            <a:ext cx="515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</p:cxnSp>
      <p:cxnSp>
        <p:nvCxnSpPr>
          <p:cNvPr id="55" name=""/>
          <p:cNvCxnSpPr>
            <a:stCxn id="49" idx="3"/>
            <a:endCxn id="43" idx="1"/>
          </p:cNvCxnSpPr>
          <p:nvPr/>
        </p:nvCxnSpPr>
        <p:spPr>
          <a:xfrm flipV="1">
            <a:off x="964440" y="1960560"/>
            <a:ext cx="512280" cy="125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56" name=""/>
          <p:cNvCxnSpPr>
            <a:stCxn id="49" idx="3"/>
            <a:endCxn id="42" idx="1"/>
          </p:cNvCxnSpPr>
          <p:nvPr/>
        </p:nvCxnSpPr>
        <p:spPr>
          <a:xfrm>
            <a:off x="964440" y="3216240"/>
            <a:ext cx="478080" cy="1032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57" name=""/>
          <p:cNvCxnSpPr>
            <a:stCxn id="46" idx="3"/>
            <a:endCxn id="45" idx="1"/>
          </p:cNvCxnSpPr>
          <p:nvPr/>
        </p:nvCxnSpPr>
        <p:spPr>
          <a:xfrm>
            <a:off x="2394360" y="815760"/>
            <a:ext cx="2451960" cy="76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58" name=""/>
          <p:cNvCxnSpPr>
            <a:stCxn id="43" idx="3"/>
            <a:endCxn id="45" idx="1"/>
          </p:cNvCxnSpPr>
          <p:nvPr/>
        </p:nvCxnSpPr>
        <p:spPr>
          <a:xfrm flipV="1">
            <a:off x="2317680" y="1579320"/>
            <a:ext cx="25286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sp>
        <p:nvSpPr>
          <p:cNvPr id="54" name=""/>
          <p:cNvSpPr/>
          <p:nvPr/>
        </p:nvSpPr>
        <p:spPr>
          <a:xfrm>
            <a:off x="1330560" y="2610000"/>
            <a:ext cx="1133280" cy="49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two buff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GhostTextBuff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GhostTextBuff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3" idx="3"/>
            <a:endCxn id="48" idx="1"/>
          </p:cNvCxnSpPr>
          <p:nvPr/>
        </p:nvCxnSpPr>
        <p:spPr>
          <a:xfrm flipV="1">
            <a:off x="2317680" y="1503360"/>
            <a:ext cx="36612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43" idx="2"/>
            <a:endCxn id="54" idx="0"/>
          </p:cNvCxnSpPr>
          <p:nvPr/>
        </p:nvCxnSpPr>
        <p:spPr>
          <a:xfrm>
            <a:off x="1896840" y="2213280"/>
            <a:ext cx="7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61" name=""/>
          <p:cNvCxnSpPr>
            <a:endCxn id="45" idx="2"/>
          </p:cNvCxnSpPr>
          <p:nvPr/>
        </p:nvCxnSpPr>
        <p:spPr>
          <a:xfrm flipV="1">
            <a:off x="4647960" y="1969920"/>
            <a:ext cx="805320" cy="19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62" name=""/>
          <p:cNvCxnSpPr>
            <a:stCxn id="42" idx="3"/>
          </p:cNvCxnSpPr>
          <p:nvPr/>
        </p:nvCxnSpPr>
        <p:spPr>
          <a:xfrm flipV="1">
            <a:off x="2349000" y="3961800"/>
            <a:ext cx="229968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85840" y="304560"/>
            <a:ext cx="2629080" cy="4698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ocs &amp; Buff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30680" y="2455560"/>
            <a:ext cx="802440" cy="111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Main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inFrm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inFrm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.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sourc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17440" y="3988800"/>
            <a:ext cx="1070640" cy="840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r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Fram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Fram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Bar with stop but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mpState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mpState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53760" y="4110480"/>
            <a:ext cx="816120" cy="59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User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Action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Output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Output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29800" y="3569400"/>
            <a:ext cx="1311480" cy="1677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One vie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istvw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istvwe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ColHandl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ColItem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ColItem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ortHeaderCtrl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ortHeaderCtrl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to display localized str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calit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calit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4" idx="3"/>
            <a:endCxn id="65" idx="1"/>
          </p:cNvCxnSpPr>
          <p:nvPr/>
        </p:nvCxnSpPr>
        <p:spPr>
          <a:xfrm>
            <a:off x="939600" y="3013200"/>
            <a:ext cx="178200" cy="1397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69" name=""/>
          <p:cNvCxnSpPr>
            <a:stCxn id="65" idx="3"/>
            <a:endCxn id="67" idx="1"/>
          </p:cNvCxnSpPr>
          <p:nvPr/>
        </p:nvCxnSpPr>
        <p:spPr>
          <a:xfrm flipV="1">
            <a:off x="2187720" y="4408200"/>
            <a:ext cx="443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70" name=""/>
          <p:cNvCxnSpPr>
            <a:stCxn id="65" idx="3"/>
            <a:endCxn id="71" idx="1"/>
          </p:cNvCxnSpPr>
          <p:nvPr/>
        </p:nvCxnSpPr>
        <p:spPr>
          <a:xfrm flipV="1">
            <a:off x="2187360" y="2936520"/>
            <a:ext cx="549720" cy="14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72" name=""/>
          <p:cNvCxnSpPr>
            <a:stCxn id="67" idx="3"/>
            <a:endCxn id="66" idx="1"/>
          </p:cNvCxnSpPr>
          <p:nvPr/>
        </p:nvCxnSpPr>
        <p:spPr>
          <a:xfrm>
            <a:off x="3940200" y="4408560"/>
            <a:ext cx="2107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1" name=""/>
          <p:cNvSpPr/>
          <p:nvPr/>
        </p:nvSpPr>
        <p:spPr>
          <a:xfrm>
            <a:off x="2740680" y="2584800"/>
            <a:ext cx="1090440" cy="704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Header bar (path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orFilepath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orFilepath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pathEdi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pathEdi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79000" y="721800"/>
            <a:ext cx="947160" cy="1571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Merge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hildFrm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hildFrm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EditStatu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itterWnd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itterWndE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View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View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60480" y="679680"/>
            <a:ext cx="1044720" cy="704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Two splitter view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Edit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Edi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hostTextView.cpp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hostTex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63280" y="1704600"/>
            <a:ext cx="1239840" cy="460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Two detail view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DiffDetail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DiffDetail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3" idx="3"/>
            <a:endCxn id="75" idx="1"/>
          </p:cNvCxnSpPr>
          <p:nvPr/>
        </p:nvCxnSpPr>
        <p:spPr>
          <a:xfrm>
            <a:off x="2125440" y="1508040"/>
            <a:ext cx="54036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77" name=""/>
          <p:cNvCxnSpPr>
            <a:stCxn id="73" idx="3"/>
            <a:endCxn id="74" idx="1"/>
          </p:cNvCxnSpPr>
          <p:nvPr/>
        </p:nvCxnSpPr>
        <p:spPr>
          <a:xfrm flipV="1">
            <a:off x="2125800" y="1031040"/>
            <a:ext cx="630720" cy="477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sp>
        <p:nvSpPr>
          <p:cNvPr id="78" name=""/>
          <p:cNvSpPr/>
          <p:nvPr/>
        </p:nvSpPr>
        <p:spPr>
          <a:xfrm>
            <a:off x="4483080" y="250920"/>
            <a:ext cx="1061640" cy="2544480"/>
          </a:xfrm>
          <a:prstGeom prst="rect">
            <a:avLst/>
          </a:prstGeom>
          <a:solidFill>
            <a:srgbClr val="cccc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Syntax colored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ystaleditviewe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ystaleditview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Editable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editview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edit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edi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Basic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2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cmd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needs registry ac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istr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istr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source for regist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re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10760" y="737640"/>
            <a:ext cx="1264320" cy="15710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User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dialogs search 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editreplace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findtext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findtext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editreplace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mcombo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mcombo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mcombo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needs</a:t>
            </a: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gular express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egexp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egex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64" idx="3"/>
            <a:endCxn id="73" idx="1"/>
          </p:cNvCxnSpPr>
          <p:nvPr/>
        </p:nvCxnSpPr>
        <p:spPr>
          <a:xfrm flipV="1">
            <a:off x="939600" y="1507320"/>
            <a:ext cx="240120" cy="150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81" name=""/>
          <p:cNvCxnSpPr>
            <a:stCxn id="73" idx="3"/>
            <a:endCxn id="71" idx="1"/>
          </p:cNvCxnSpPr>
          <p:nvPr/>
        </p:nvCxnSpPr>
        <p:spPr>
          <a:xfrm>
            <a:off x="2125440" y="1507680"/>
            <a:ext cx="611640" cy="1429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82" name=""/>
          <p:cNvCxnSpPr>
            <a:stCxn id="74" idx="3"/>
            <a:endCxn id="78" idx="1"/>
          </p:cNvCxnSpPr>
          <p:nvPr/>
        </p:nvCxnSpPr>
        <p:spPr>
          <a:xfrm>
            <a:off x="3809520" y="1031400"/>
            <a:ext cx="654840" cy="49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</p:cxnSp>
      <p:cxnSp>
        <p:nvCxnSpPr>
          <p:cNvPr id="83" name=""/>
          <p:cNvCxnSpPr>
            <a:stCxn id="75" idx="3"/>
            <a:endCxn id="78" idx="1"/>
          </p:cNvCxnSpPr>
          <p:nvPr/>
        </p:nvCxnSpPr>
        <p:spPr>
          <a:xfrm flipV="1">
            <a:off x="3900240" y="1523520"/>
            <a:ext cx="564120" cy="41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</p:cxnSp>
      <p:cxnSp>
        <p:nvCxnSpPr>
          <p:cNvPr id="84" name=""/>
          <p:cNvCxnSpPr>
            <a:stCxn id="78" idx="3"/>
            <a:endCxn id="79" idx="1"/>
          </p:cNvCxnSpPr>
          <p:nvPr/>
        </p:nvCxnSpPr>
        <p:spPr>
          <a:xfrm>
            <a:off x="5563800" y="1523520"/>
            <a:ext cx="227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1943280" cy="4701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Frames &amp; View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051440" y="765720"/>
            <a:ext cx="1296360" cy="3935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syntax par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pars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pars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textblock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textblock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parser langu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tc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tex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basi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batch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asp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ortra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hp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ytho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er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rexx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rsr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gm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h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iod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q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java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lisp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htm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plusplu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c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asca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i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62720" y="228600"/>
            <a:ext cx="0" cy="527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51960" y="304560"/>
            <a:ext cx="88020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Not Us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79160" y="2379960"/>
            <a:ext cx="1422720" cy="2696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global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rysEdit as d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tlib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tlib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ustom status b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splash scre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view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spel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wispelld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oto line dialo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oto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oto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toggle header (??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u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up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up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26520" y="928800"/>
            <a:ext cx="691200" cy="120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ffuti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LOCA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main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ETOPT1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ETOPT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ETOP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DIFF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CK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2400" y="920160"/>
            <a:ext cx="662400" cy="81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Fil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Fil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tool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tool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textfil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textfil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2600" y="767520"/>
            <a:ext cx="11941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unicode conver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Utf8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Utf8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48320" y="3435840"/>
            <a:ext cx="921240" cy="132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Plugi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Transform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Transform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Plugins lowlev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lugin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lugin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wdis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proxy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prox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wdisp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99560" y="3435120"/>
            <a:ext cx="784080" cy="108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Versio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sauto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sapi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sapi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Promp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ssPromp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ssPromp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Promp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97320" y="771480"/>
            <a:ext cx="988560" cy="242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option dialo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Registr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Synta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Synta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Vs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Vs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Color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Color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Filt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Filte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General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General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Registr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lorButton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lorButton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ls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ls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anguageSelec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anguageSelec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800" y="1613160"/>
            <a:ext cx="1418040" cy="38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LogF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nfigLo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nfigLo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gFil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gFil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NU coretoo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retool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retype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retool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et file vers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ersion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ersion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gistry ac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Ke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Ke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gular expression &amp; Fil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p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FilterMg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FilterMg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Path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h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h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heck loaded dll for ex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v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ve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Files mapp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69400" y="771480"/>
            <a:ext cx="1280880" cy="242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Internet link in about bo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Link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Link.h</a:t>
            </a: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sizable dialo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MoveConstrain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MoveConstrain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Subclas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Subclas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ustom me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CMenu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CMenu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ustom wait curs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WaitStatusCurso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WaitStatusCursor.h</a:t>
            </a: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UI ot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ultimon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uperComboBo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uperComboBo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2286000" cy="317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14:23:50Z</dcterms:created>
  <dc:creator>Laoran</dc:creator>
  <dc:description/>
  <dc:language>en-US</dc:language>
  <cp:lastModifiedBy>Christian Blackburn</cp:lastModifiedBy>
  <dcterms:modified xsi:type="dcterms:W3CDTF">2004-03-18T00:08:39Z</dcterms:modified>
  <cp:revision>30</cp:revision>
  <dc:subject/>
  <dc:title>Presentation of WinMerge fi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E:\programmation\WinMerge\WinMerge tilé\____documentation file WinMerge\slides graphic format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