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FDA-68E3-4E53-BF33-A87E1AD6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618-0046-4328-8FDD-8E036B26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5DE-E98C-454F-B881-B72EB38A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A00-DC66-43A3-9149-6DFB9E95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357-9822-4642-9463-918105BF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8A7-4AE9-420A-B8A2-C67AEA7B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12D-305E-478B-BF1D-A7F1EE46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957-99DE-4641-9E77-A5A964F7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178-70DB-457F-9890-CBD5A06F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50B-6F49-4FA2-8C96-6A2DB1A8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073-2F9E-45E1-A68C-847585C0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0F5-10C4-4837-90CC-3E0F2463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2B90-F45D-479C-AAE9-815D0359B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3880" y="71280"/>
            <a:ext cx="7896240" cy="671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044720"/>
            <a:ext cx="6480000" cy="49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360"/>
            <a:ext cx="1439640" cy="49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539720"/>
            <a:ext cx="270036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7000" y="1539720"/>
            <a:ext cx="364464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654360"/>
            <a:ext cx="6480000" cy="2970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97720" y="1852560"/>
            <a:ext cx="719280" cy="58572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97720" y="2484360"/>
            <a:ext cx="719280" cy="495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480" y="511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640" y="104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4800" y="15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12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59240" y="1593720"/>
            <a:ext cx="31176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240" y="177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240" y="24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1:23:30Z</dcterms:created>
  <dc:creator>Toru Furukawa</dc:creator>
  <dc:description/>
  <dc:language>en-US</dc:language>
  <cp:lastModifiedBy>Toru Furukawa</cp:lastModifiedBy>
  <dcterms:modified xsi:type="dcterms:W3CDTF">2007-05-26T11:49:05Z</dcterms:modified>
  <cp:revision>2</cp:revision>
  <dc:subject/>
  <dc:title>スライド 1</dc:title>
</cp:coreProperties>
</file>